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E7C-BECA-4821-BD73-0FB83F8D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34-E820-4B97-90B4-03056F47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4AD-E7DC-40E8-AFD3-E163C522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118-8AA5-454A-B191-3009CE1D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DCFB-4F19-4047-951F-08568E7E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C11B-17F5-47ED-82EE-F2CBC9CA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CF06-EF19-49F1-894B-FC38E1ED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F90-6111-4A40-8E2D-03540E9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3E57-EFDE-4F9A-B784-6136BADC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35A-4494-406E-A661-F88F644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A8F-ACA0-4A44-AE43-72AD540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91F-ED18-42E8-AFB4-DA2A45F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3936-05C1-4247-BF21-4D006CE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B95D-803B-4DA9-8C3F-8D04CF6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FE86-1CB6-4C03-A020-0657BF1B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CCF-AD29-4712-B474-B6E8E610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78EE-9D80-448A-AB8B-7B4D1E0A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6AE-933B-4659-AEE8-830D0958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30B-8CB0-4CF1-9EE7-B784ECE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9BE-B451-40BD-B412-53D617D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EF9-A587-4F07-90EA-62FAEDA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FC1-8D8C-4AE2-A72D-960585B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9D0-5A46-4D1C-B4C5-614975A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FC1-03FC-42FB-9EDA-A32540D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334-C224-4DD8-8467-8D75DCF9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190-B984-480F-8340-6552A3F4D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bile_radio_telephon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reaming.factsonfile.com/PortalPlaylists.aspx?aid=7168&amp;xtid=10461&amp;loid=19744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2369880"/>
            <a:ext cx="8915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Unit 4: </a:t>
            </a:r>
            <a:r>
              <a:rPr b="0" lang="en-US" sz="5100" spc="-1" strike="noStrike">
                <a:solidFill>
                  <a:srgbClr val="009999"/>
                </a:solidFill>
                <a:latin typeface="Arial"/>
              </a:rPr>
              <a:t>Industrial Revolution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47920" y="-22896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lease take an </a:t>
            </a:r>
            <a:r>
              <a:rPr b="1" lang="en-US" sz="2900" spc="-1" strike="noStrike">
                <a:solidFill>
                  <a:srgbClr val="ff6600"/>
                </a:solidFill>
                <a:latin typeface="Verdana"/>
              </a:rPr>
              <a:t>ORANGE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handout – This is your </a:t>
            </a:r>
            <a:r>
              <a:rPr b="1" i="1" lang="en-US" sz="2900" spc="-1" strike="noStrike">
                <a:solidFill>
                  <a:srgbClr val="ffffff"/>
                </a:solidFill>
                <a:latin typeface="Verdana"/>
              </a:rPr>
              <a:t>Extra Credi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opportunity for Semester On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wo options – can only do on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ue: January 9, 201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219320" y="4419720"/>
            <a:ext cx="69339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oday in History: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Nov 18, 1883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exactl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n this day, American and Canadian railroads begin using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ur continental time zon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end the confusion of dealing with thousands of local times. The bold move was emblematic of the power shared by the railroad compani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NUS QUESTION: 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Do you know how many time zones the United States has toda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5" descr="ANd9GcQthM2iqJ_0EuaLBAh0cZo0QDZJd9HrVEn0NKwCHhba1dBTWYm4qfFW7mEbqw"/>
          <p:cNvPicPr/>
          <p:nvPr/>
        </p:nvPicPr>
        <p:blipFill>
          <a:blip r:embed="rId1"/>
          <a:stretch/>
        </p:blipFill>
        <p:spPr>
          <a:xfrm>
            <a:off x="5410080" y="1828800"/>
            <a:ext cx="329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940s mobile 2-way Motorola rad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Picture 5" descr="220px-Mobile_radio_teleph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267080"/>
            <a:ext cx="2286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40s mobile 2-way Motorola radio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lephone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87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5" descr="antiquetelephone"/>
          <p:cNvPicPr/>
          <p:nvPr/>
        </p:nvPicPr>
        <p:blipFill>
          <a:blip r:embed="rId1"/>
          <a:stretch/>
        </p:blipFill>
        <p:spPr>
          <a:xfrm>
            <a:off x="6086520" y="1828800"/>
            <a:ext cx="2828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y mobile 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Patent issued for first wireless phone in 1969, but ideas circulating since 1940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bile communication devic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1940s mobile two-way radio from Motoro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lephon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187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unication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Since… forev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5" descr="talking"/>
          <p:cNvPicPr/>
          <p:nvPr/>
        </p:nvPicPr>
        <p:blipFill>
          <a:blip r:embed="rId1"/>
          <a:stretch/>
        </p:blipFill>
        <p:spPr>
          <a:xfrm>
            <a:off x="762120" y="50292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learn-sign-language-fast-800x800"/>
          <p:cNvPicPr/>
          <p:nvPr/>
        </p:nvPicPr>
        <p:blipFill>
          <a:blip r:embed="rId2"/>
          <a:stretch/>
        </p:blipFill>
        <p:spPr>
          <a:xfrm>
            <a:off x="3581280" y="5029200"/>
            <a:ext cx="1676520" cy="1639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goodall_2"/>
          <p:cNvPicPr/>
          <p:nvPr/>
        </p:nvPicPr>
        <p:blipFill>
          <a:blip r:embed="rId3"/>
          <a:stretch/>
        </p:blipFill>
        <p:spPr>
          <a:xfrm>
            <a:off x="6172200" y="4952880"/>
            <a:ext cx="1724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Let’s talk about technology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When do you think these inventions were mad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5" descr="ANd9GcT-WKeV9IIOpViJ90YJvhXY2lvgzSKtPwtbrez7RZgqfZrugqEgSQ"/>
          <p:cNvPicPr/>
          <p:nvPr/>
        </p:nvPicPr>
        <p:blipFill>
          <a:blip r:embed="rId1"/>
          <a:stretch/>
        </p:blipFill>
        <p:spPr>
          <a:xfrm>
            <a:off x="2362320" y="3809880"/>
            <a:ext cx="38862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Let’s talk about technology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When do you think these inventions were mad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Best guess with your BREAKFAST buddy!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Leave third column blank for now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ANd9GcT-WKeV9IIOpViJ90YJvhXY2lvgzSKtPwtbrez7RZgqfZrugqEgSQ"/>
          <p:cNvPicPr/>
          <p:nvPr/>
        </p:nvPicPr>
        <p:blipFill>
          <a:blip r:embed="rId1"/>
          <a:stretch/>
        </p:blipFill>
        <p:spPr>
          <a:xfrm>
            <a:off x="2362320" y="3809880"/>
            <a:ext cx="38862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Now with your corrections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in the third colum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IDE: What effect this technology has had on our liv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ASIER and SAFER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ore DIFFICULT or DANGEROU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you are able to explai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5" descr="02-youre-doing-it-wrong"/>
          <p:cNvPicPr/>
          <p:nvPr/>
        </p:nvPicPr>
        <p:blipFill>
          <a:blip r:embed="rId1"/>
          <a:stretch/>
        </p:blipFill>
        <p:spPr>
          <a:xfrm>
            <a:off x="4495680" y="1981080"/>
            <a:ext cx="4624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acket Activity #1 - Individu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s technology a good thing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your response with specific examp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5" name="Picture 4" descr="02-youre-doing-it-wrong"/>
          <p:cNvPicPr/>
          <p:nvPr/>
        </p:nvPicPr>
        <p:blipFill>
          <a:blip r:embed="rId1"/>
          <a:stretch/>
        </p:blipFill>
        <p:spPr>
          <a:xfrm>
            <a:off x="4495680" y="1981080"/>
            <a:ext cx="4624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ot another Lady Gaga vide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ustrial Revolu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04:0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streaming.factsonfile.com/PortalPlaylists.aspx?aid=7168&amp;xtid=10461&amp;loid=1974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retch Break!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0" name="Picture 5" descr="d00af_funny-dog-pictures-important-stretch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1981080" y="22392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12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The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Wa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 schedule as of next week will be chang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still teach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our (B and D day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ALSO now be teaching on A and C day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for a mon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21e8"/>
                </a:solidFill>
                <a:latin typeface="Verdana"/>
              </a:rPr>
              <a:t>RESOURCE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on Tuesday morning – SS Lab, get pass from me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People’s lives changed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… and it wasn’t all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nies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505"/>
                </a:solidFill>
                <a:latin typeface="Arial"/>
              </a:rPr>
              <a:t>roses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…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are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r working conditio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?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. 7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acket Activity Two - Individu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uld you (as a 15 year old) attempt to change your working conditions in the factory? H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Extra Food For Thought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Would you rather be working today than being in school? Why or why no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(you can include this with your answer for Activity Tw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Picture 4" descr="B1EC19324A4340638C4457E577997CC5"/>
          <p:cNvPicPr/>
          <p:nvPr/>
        </p:nvPicPr>
        <p:blipFill>
          <a:blip r:embed="rId1"/>
          <a:stretch/>
        </p:blipFill>
        <p:spPr>
          <a:xfrm>
            <a:off x="228600" y="1609560"/>
            <a:ext cx="2790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lip over your packet to the front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eginn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ustrialization Change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ead of Industria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forming the Industrial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ing Question: </a:t>
            </a:r>
            <a:r>
              <a:rPr b="0" i="1" lang="en-US" sz="3200" spc="-1" strike="noStrike">
                <a:solidFill>
                  <a:srgbClr val="009999"/>
                </a:solidFill>
                <a:latin typeface="Verdana"/>
              </a:rPr>
              <a:t>Was the Industrial Revolution a good thing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lip over your packet to the front…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eginn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trialization Changes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ead of Industrial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orming the Industrial Wor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uiding Question: </a:t>
            </a:r>
            <a:r>
              <a:rPr b="0" i="1" lang="en-US" sz="2800" spc="-1" strike="noStrike">
                <a:solidFill>
                  <a:srgbClr val="009999"/>
                </a:solidFill>
                <a:latin typeface="Verdana"/>
              </a:rPr>
              <a:t>Was the Industrial Revolution a good th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ESSMENT OPTIONS: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ssay or T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Tuesday, Dec. 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4" descr="Europemap-2010"/>
          <p:cNvPicPr/>
          <p:nvPr/>
        </p:nvPicPr>
        <p:blipFill>
          <a:blip r:embed="rId1"/>
          <a:stretch/>
        </p:blipFill>
        <p:spPr>
          <a:xfrm>
            <a:off x="1066680" y="1211400"/>
            <a:ext cx="7315200" cy="549432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5"/>
          <p:cNvSpPr/>
          <p:nvPr/>
        </p:nvSpPr>
        <p:spPr>
          <a:xfrm rot="17344800">
            <a:off x="2743200" y="2209320"/>
            <a:ext cx="2666880" cy="533520"/>
          </a:xfrm>
          <a:prstGeom prst="leftArrow">
            <a:avLst>
              <a:gd name="adj1" fmla="val 50000"/>
              <a:gd name="adj2" fmla="val 1249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6" name="Picture 5" descr="britain"/>
          <p:cNvPicPr/>
          <p:nvPr/>
        </p:nvPicPr>
        <p:blipFill>
          <a:blip r:embed="rId1"/>
          <a:stretch/>
        </p:blipFill>
        <p:spPr>
          <a:xfrm>
            <a:off x="2514600" y="1762200"/>
            <a:ext cx="3772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y Britain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Picture 4" descr="britain"/>
          <p:cNvPicPr/>
          <p:nvPr/>
        </p:nvPicPr>
        <p:blipFill>
          <a:blip r:embed="rId1"/>
          <a:stretch/>
        </p:blipFill>
        <p:spPr>
          <a:xfrm>
            <a:off x="2514600" y="1762200"/>
            <a:ext cx="3772080" cy="3800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6400800" y="1600200"/>
            <a:ext cx="2743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2133720" y="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book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Groups: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Check-I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21e8"/>
                </a:solidFill>
                <a:latin typeface="Verdana"/>
              </a:rPr>
              <a:t>10 MINUTES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check in with your grou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dividual progress on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Book cover</a:t>
            </a:r>
            <a:r>
              <a:rPr b="0" lang="en-US" sz="2200" spc="-1" strike="noStrike">
                <a:solidFill>
                  <a:srgbClr val="ff0505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 5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– Consider my revision sheet from Wednesday. Is a draft ready to be typed?  </a:t>
            </a:r>
            <a:r>
              <a:rPr b="1" i="1" lang="en-US" sz="2200" spc="-1" strike="noStrike">
                <a:solidFill>
                  <a:srgbClr val="ffffff"/>
                </a:solidFill>
                <a:latin typeface="Verdana"/>
              </a:rPr>
              <a:t>This chapter does not need to be “storybook.” Think of it as an “Afterword” or “Author’s Note.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rcRect l="0" t="0" r="0" b="43211"/>
          <a:stretch/>
        </p:blipFill>
        <p:spPr>
          <a:xfrm>
            <a:off x="2133720" y="0"/>
            <a:ext cx="5029200" cy="16812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book</a:t>
            </a:r>
            <a:r>
              <a:rPr b="0" lang="en-US" sz="4400" spc="-1" strike="noStrike">
                <a:solidFill>
                  <a:srgbClr val="ff0505"/>
                </a:solidFill>
                <a:latin typeface="Arial"/>
              </a:rPr>
              <a:t> Groups: </a:t>
            </a:r>
            <a:r>
              <a:rPr b="0" lang="en-US" sz="4400" spc="-1" strike="noStrike">
                <a:solidFill>
                  <a:srgbClr val="1c21e8"/>
                </a:solidFill>
                <a:latin typeface="Arial"/>
              </a:rPr>
              <a:t>Check-I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21e8"/>
                </a:solidFill>
                <a:latin typeface="Verdana"/>
              </a:rPr>
              <a:t>10 MINUTES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check in with your grou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dividual progress on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Book cover</a:t>
            </a:r>
            <a:r>
              <a:rPr b="0" lang="en-US" sz="2200" spc="-1" strike="noStrike">
                <a:solidFill>
                  <a:srgbClr val="ff0505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Chapter 5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– Consider my revision sheet from Wednesday. Is a draft ready to be typed?  </a:t>
            </a:r>
            <a:r>
              <a:rPr b="1" i="1" lang="en-US" sz="2200" spc="-1" strike="noStrike">
                <a:solidFill>
                  <a:srgbClr val="ffffff"/>
                </a:solidFill>
                <a:latin typeface="Verdana"/>
              </a:rPr>
              <a:t>This chapter does not need to be “storybook.” Think of it as an “Afterword” or “Author’s Note.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UE TUESDAY – You have 5 minutes on Tuesday at the beginning of class to assemble your book. </a:t>
            </a:r>
            <a:r>
              <a:rPr b="0" lang="en-US" sz="2200" spc="-1" strike="noStrike" u="sng">
                <a:solidFill>
                  <a:srgbClr val="ff0505"/>
                </a:solidFill>
                <a:uFillTx/>
                <a:latin typeface="Verdana"/>
              </a:rPr>
              <a:t>NO LAST MINUTE PRINTING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. No late work coupons. If turned in after break… Up to ½ credi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21e8"/>
                </a:solidFill>
                <a:latin typeface="Verdana"/>
              </a:rPr>
              <a:t>RESOURCE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on Tuesday morning – SS Lab, get pass from me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ew Buddies… New System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AKF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N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SE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breakfast"/>
          <p:cNvPicPr/>
          <p:nvPr/>
        </p:nvPicPr>
        <p:blipFill>
          <a:blip r:embed="rId1"/>
          <a:stretch/>
        </p:blipFill>
        <p:spPr>
          <a:xfrm>
            <a:off x="6095880" y="1219320"/>
            <a:ext cx="1947960" cy="1488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school_lunches_13"/>
          <p:cNvPicPr/>
          <p:nvPr/>
        </p:nvPicPr>
        <p:blipFill>
          <a:blip r:embed="rId2"/>
          <a:stretch/>
        </p:blipFill>
        <p:spPr>
          <a:xfrm>
            <a:off x="1676520" y="24382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thanksgiving+dinner"/>
          <p:cNvPicPr/>
          <p:nvPr/>
        </p:nvPicPr>
        <p:blipFill>
          <a:blip r:embed="rId3"/>
          <a:stretch/>
        </p:blipFill>
        <p:spPr>
          <a:xfrm>
            <a:off x="579132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for_cakes_only_dessert_deli_me_p1"/>
          <p:cNvPicPr/>
          <p:nvPr/>
        </p:nvPicPr>
        <p:blipFill>
          <a:blip r:embed="rId4"/>
          <a:stretch/>
        </p:blipFill>
        <p:spPr>
          <a:xfrm>
            <a:off x="990720" y="4648320"/>
            <a:ext cx="23907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New Buddies… New System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BREAKFAS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partner – someone N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LUNCH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Group of 3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</a:rPr>
              <a:t>DINNER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Group of 4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SERT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– 1 partner – this person should not be in any other of your groups/pair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thanksgiving+dinner"/>
          <p:cNvPicPr/>
          <p:nvPr/>
        </p:nvPicPr>
        <p:blipFill>
          <a:blip r:embed="rId1"/>
          <a:stretch/>
        </p:blipFill>
        <p:spPr>
          <a:xfrm>
            <a:off x="5791320" y="25146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5" descr="cellphone_cat"/>
          <p:cNvPicPr/>
          <p:nvPr/>
        </p:nvPicPr>
        <p:blipFill>
          <a:blip r:embed="rId1"/>
          <a:stretch/>
        </p:blipFill>
        <p:spPr>
          <a:xfrm>
            <a:off x="990720" y="1295280"/>
            <a:ext cx="6858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</a:t>
            </a:r>
            <a:r>
              <a:rPr b="1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this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8" descr="cell_phones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hen was this invented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l, it depends on what you’re referring to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rn cell phone?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pends on your definition… anytime between 1973 (1 G network) to 2009 (4 G networ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Picture 5" descr="cell_phones"/>
          <p:cNvPicPr/>
          <p:nvPr/>
        </p:nvPicPr>
        <p:blipFill>
          <a:blip r:embed="rId1"/>
          <a:stretch/>
        </p:blipFill>
        <p:spPr>
          <a:xfrm>
            <a:off x="2666880" y="4114800"/>
            <a:ext cx="41148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3:39:06Z</dcterms:created>
  <dc:creator>MCPASD</dc:creator>
  <dc:description/>
  <dc:language>en-US</dc:language>
  <cp:lastModifiedBy>Meri</cp:lastModifiedBy>
  <dcterms:modified xsi:type="dcterms:W3CDTF">2011-11-21T03:43:34Z</dcterms:modified>
  <cp:revision>26</cp:revision>
  <dc:subject/>
  <dc:title>Industrial Revolution</dc:title>
</cp:coreProperties>
</file>